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wmf" ContentType="image/x-wmf"/>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6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3"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move the slide</a:t>
            </a:r>
            <a:endParaRPr b="0" lang="en-US" sz="5400" spc="-1" strike="noStrike">
              <a:solidFill>
                <a:srgbClr val="000000"/>
              </a:solidFill>
              <a:latin typeface="Calisto MT"/>
            </a:endParaRPr>
          </a:p>
        </p:txBody>
      </p:sp>
      <p:sp>
        <p:nvSpPr>
          <p:cNvPr id="6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6"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7"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D626-9456-4C82-A720-02C3D903F1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oint-stock company: pooled the savings of people of moderate means and supported trading ventures that seemed moderately profitable. </a:t>
            </a: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9B93-52A2-48DB-8738-CBAC473A44C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1B4041B-5334-4AFB-8619-C9F577B27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995DC61-48FB-4D93-AF9C-D8B193B84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DB16B-F62C-42C4-98C0-A41C9244B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C77A91-8206-4341-9A32-9B4FAD1D2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8F0504-30FA-4AE4-8832-74691203E6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AEC83-155E-44DC-9BA4-405A4818C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D110C-963F-4FCA-A766-532248050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1304A-3DE1-45CB-80AA-5B6FEEB382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3D4A70-B834-418E-AC21-6F265FD987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432945-20E4-48E1-9FD7-7AFF34133A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11AB47-7718-46FC-B82C-B81233456F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F7E2BD-EC79-41AE-869F-6369622BD5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10026DF-2F00-470D-8CDE-C007CB6694C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828017-EC91-47CF-890A-57A2908A04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168302-AF51-45FF-8B21-EA5AA80557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2275EA-4877-4B98-B394-0ED1FC2152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B30F67-FB9D-45A2-856B-8F9A3A0E68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8E6EDC-0324-48D7-A2D8-8663581B19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4D821D-400D-4773-B569-6773393045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C4CACA-7638-4759-B1F8-C2239B4E34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45351-138C-47B1-AC87-0CD315A524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5BF789-4679-48A0-B083-F32560422A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421DA5-ADAB-4122-9540-77CFB1FB88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AA2A2A0-35D5-4D51-A5C4-D5DFA9BEC6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D54BEB-674B-4BE4-A886-76D14CD43C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E307AB-017A-4468-B7D1-FD2C022838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2B0A41-4F96-4892-91C5-D53688EDF4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2F9358-65DB-46D6-9D06-A7DBF6F85E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28171A-60B4-4221-8FFB-249CD54A09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A7729-2BDC-4A33-896E-623260347E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ACED91-2BB8-4250-A8C2-4DA5CDFC06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61E67D-C38C-490D-BB4B-85538803E4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B5C40D-A3BA-48DA-9A39-FCE876E3E5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718A43-196C-4ED1-BCBE-7B35D41F1D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B52A3-2027-4FCF-A89A-2E1290658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065816-E236-4610-93D4-347BF0B63C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354271-B2C3-4076-BB5D-EC16BF442C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D542B1-3B31-4630-A535-B396C48D3A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E7B5EE-F90E-462F-901E-C1DC1D5401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DC46C1-6409-43B7-8552-E996CF7115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FFAAAE-8440-4A18-861F-2D8BBECEB8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A76935-52A7-41ED-9ADC-1E754FA501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77927A-7F85-4700-A6F8-AC76FACA2C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CD8CB3-1398-4BFC-A4EC-FC00A96DCA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745D0F-0E17-40A2-AF64-1D02CB0803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58AD1-C82F-46C2-BFA4-1DAE3CC8C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F7FA9A-537E-4023-995F-790CBE2A0E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15C7F2-B126-438C-8EDB-3BC500995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55EB8B-A79F-45B3-BA22-62803ECD45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FBF8FF-B291-422A-9ECA-59C2AF2872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A592AE-F1E4-4C1D-9637-32F5CD3C09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B9FC29-F8D1-4803-8D74-6827762C64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9C4C06-C3B0-4CDB-B7FA-8FA116892B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EFB77D-7C64-4A05-894A-34017163AC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1E0435-A2F7-4513-8D1E-C7BAC1535A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4C1DC2-5940-4582-AF35-5E65285AED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147B3-CD0C-4E74-8645-90A1E8E8B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6E708A-AEAE-4D95-8F30-4201620DF2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37BF1A-9A2C-4F17-98E0-F6176EFBD7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3BAFE8-73DF-4311-8785-BAB15EF3B2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52D314-84FB-44E2-B9A2-FE670656B7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A251C6-C022-4FC5-A833-4FA079B98B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0778D1-8DD0-4D0A-9DD7-6CB98F5313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93C45E-E70C-4F95-956D-4680FECA60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D7D978-ACD0-4E97-83B8-93714C0BFF6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03321E-01E8-41B2-9F92-DE0B0C98AD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723D89-27E6-4EC0-AE68-1C741226E9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E3C74-3526-46BF-A4DA-F1C85AA86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4A8B4F-BC6D-47ED-AED4-E3AAD4B827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53380B-B0D4-4EF5-92BA-B4E2DD2AD1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80E403-9EB2-4205-B4EE-9DC9CD01D2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543010-4CEA-466F-A385-1B1D674447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DFD0E8-2F2E-4C93-81BD-CF86E58631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411A0A-829F-42F2-877D-BF6D4EDECD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D6745E-3A8C-40A1-97AA-B582921F60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5B21B09-5205-40A4-9863-0FEA83100C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3E6378-02E8-4230-9F28-5DDB573C5FB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5E9E39C-0200-4834-9553-C49F327AF98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68B2B-C153-446D-B201-25297241A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B0C267-CE1D-4241-A74E-1664CC35E9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E456BA-916A-4CCA-88A1-BC903C16BE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46391F-DAD0-43A8-B84A-569B3CDC68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238EA5-385E-4BC5-BDC9-843BB17D8B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BFA639-0521-471D-9EA8-EFC967F2F1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140CD2-3121-4730-91E6-48F356EF4C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B5136A-23BC-49A4-94EF-AD79D4EB66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7D17B0-A5DB-4001-9807-60E02B64C9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2367EB-79CF-4E83-91B4-731349D8D7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D93332-D41B-4A27-8CC0-F871D37FCA3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097A9-1C98-4C1D-BE8D-301A4A5B1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A9B909-7CB0-4318-9999-F44B7D3885E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ECF9C-4F07-40F3-AF76-1A4C17A14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396FBBE-9978-4411-A10D-A5BFFC2AD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ECF0F-A9C7-4D92-BA83-5EAF276B5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545BD-E788-4595-AA1A-CDD435AB2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436EB-365D-4812-A87D-BF8F77EC5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D70E7-107A-48B7-96E7-DB86722F6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A6837-B97C-4BFB-ADB3-4B99D4C4E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128FE-46A8-4034-8192-9AD7E70A7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4DD86D-2011-43AC-BCAD-A9BFCD261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B3973-7390-48D8-A45D-900614F62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1778E-A4FE-40AE-B349-95D1AF876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74922-5BC3-4812-930F-4D0127168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8279FFE-450B-4C3F-82DE-FCE2F3855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7579D-D758-4979-96FD-6CBDE73EF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3840D-EABD-4738-AD95-75054026F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C81F1-29D6-40B2-AC33-70DCAD1C7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68159B-2CA8-4079-B2C3-B982AF602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21F66-8929-4F86-9284-3A92A1251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B6D34E-1195-4C7E-8FB0-591ABA7B1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8A8B2-DB3A-470A-84A9-403B00509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E69C5C-ED25-4273-A650-626CC4D73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797C8-9DA8-43CE-996F-57B4D5A96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7B43B3-7789-446A-AC92-453E31432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91E36F9-6066-40B2-8240-88E9B9C25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B48B3-4D54-47D2-9E6E-30C6D399C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23E79-3BE5-46EF-9A80-88CEB6C29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8D165-51AE-40F7-9DAB-C646AA0A3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9681D-3142-4573-AB63-5AF9F243E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1AF73-8112-477D-9D21-0E82A3E1E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51E55-DF74-4A21-80F3-ED3E4CC47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EC287-D53D-4749-A111-17D3625DB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DE46EE-9B8F-4D52-983C-DC2ADCA61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921AA3-0E92-4386-9CAA-D1F7370B9A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2FFD8-C1E3-47AB-96A3-7E527F704B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48E3A63-4BE9-46F7-8D09-CA1F77CE2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F34EB-5606-430A-96AC-1F99C09F7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8B0F6-0BF9-4D37-AA33-4BE366589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32ECA-C781-4EB1-A3D0-50A51FA02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AB09E-8522-4DF5-8923-882DD1CAA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52A82-9022-4E63-80DD-847B6A87D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BA70D-C695-4E72-A16B-C7C32017D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8CEE4-CDBB-41A9-B87E-F8BFE0E24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4C7E2-3B66-4351-B68E-E2360FC70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1627D-2475-4C2B-A125-603FB80B4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0A8369-3D5D-4BDF-A6A3-BB4A585907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BA1D2E1-0CDF-4944-8876-07C46139E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CF887B-66CE-4A09-A50B-254EB63CA5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BCE5BF-E1AE-4063-BBD8-A6E37C5541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1F0FF-0340-43BD-97C1-9A82C78FAD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55440-77D1-4B6D-98A7-8D3AEA77B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B5A7C-85A7-480B-B352-8F2418DAC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A3F0B-B1A8-4EFD-AF0D-B57185576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FA4DB-4EAA-4BD1-B144-7E3B44C639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28B08-DF9A-4B29-91C7-F4C01A6C0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42B7D-A854-4E2A-B762-158B34675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D3D44-B86A-4BB2-8696-661D1D440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1597970-97D8-4DC7-9452-A9FA83F70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0769D5-9BBC-4C28-ABF7-5B1B105362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FFF602-4398-47BF-A847-94C219E8D4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C57B88-E614-424B-9D9E-D6BC4E6C9F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DB7315-E0BD-4AFE-AB35-58CFAA3B20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A91547-F9F8-42DD-B84F-E4BA53A235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5ECAC-4C73-420E-A1C4-77D757412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CCA7F-621B-454F-9605-E1F75D76A9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7D869-2EB5-4D15-89D8-EB1B70A1F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37206A-9728-476B-B57B-A9D075CB61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82113-110F-4155-9369-05066E879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B90E331-479C-4746-9A01-351B08771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121E9-5DBC-40DC-A555-E27510243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26DC5-FB7F-4AFA-BB3B-15B4313AB0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A754D-8EBF-409D-B2E9-8E5E107CC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BC239-24FA-4340-B406-2A6BB9381D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475348-91E4-46B0-BF91-99C42D75D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F03CBC-54AB-4365-BAA5-39677D1831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0713CF-0112-4A0A-9D80-BDC3215CB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513D5E-26BD-466B-957F-165AB03D44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49C193-4B55-4C8D-9C03-C749696709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22FCCD-FF16-4826-AED0-48661BBEC0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DF86780-590E-4E6A-AA01-36CFEA841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C446AE-EA32-46D0-AC3C-E0AF25480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B70280-2952-49E7-A88D-7A7C1AA05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03562-BEB0-4496-AF6F-57B94BEA6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3A554-1E3F-43F2-8811-E92A6AFD5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FAA7F9-0E59-438F-A87F-6B58C5F9E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C177E1-0566-4321-8F2C-E1A4291752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D7D371-9327-412B-A5CA-C968DE1577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A2FA7F-530C-4EB8-A724-A641C24EFA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EFFDA-C62A-4F85-BAFE-56247CCCD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404980-6678-4A3F-82BB-F512395B26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EDF3-E903-4559-8FC5-D1DFA1ACBB44}"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3082-2434-494E-9F9B-CCD745E44702}"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FE89-D3D3-4D69-950D-705B453E5A3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1551-A4C4-4DF5-A9BB-2C306CB311CF}"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8CDA-5418-4CA5-BFB9-92AC3D209263}"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36F3-8A80-4996-B12E-A79DC0ABA99C}"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FAEC-B9AE-4C36-B282-DAFA8F5235BE}"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F089-0E6E-4A69-AB78-66870BC12A6E}"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4B5D-F092-4F0C-A104-CA1C12B4CD7F}"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69DA-9C88-4057-B9AC-035DA9E58BF9}"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8B52-7A31-42D5-B3B4-9825B0E47169}"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9B90-CCCE-4E10-9AC1-1BB9AE2EE063}"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CF1C-EEED-4B07-BC95-16F0D17B9A1B}"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CC8B-9097-4D56-AACF-7069320E72ED}"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F046-B95E-4EC6-B3D7-4FE0CA15CC46}"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71320" y="1676160"/>
            <a:ext cx="8001000" cy="24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sto MT"/>
              </a:rPr>
              <a:t>AP US History</a:t>
            </a:r>
            <a:endParaRPr b="0" lang="en-US" sz="5600" spc="-1" strike="noStrike">
              <a:solidFill>
                <a:srgbClr val="000000"/>
              </a:solidFill>
              <a:latin typeface="Calisto MT"/>
            </a:endParaRPr>
          </a:p>
        </p:txBody>
      </p:sp>
      <p:sp>
        <p:nvSpPr>
          <p:cNvPr id="659" name="PlaceHolder 2"/>
          <p:cNvSpPr>
            <a:spLocks noGrp="1"/>
          </p:cNvSpPr>
          <p:nvPr>
            <p:ph type="subTitle"/>
          </p:nvPr>
        </p:nvSpPr>
        <p:spPr>
          <a:xfrm>
            <a:off x="571320" y="4419720"/>
            <a:ext cx="800100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pic: Early Colonial History</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ssential Question: Why did the colonists come to Americ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John Smith do?</a:t>
            </a:r>
            <a:endParaRPr b="0" lang="en-US" sz="5400" spc="-1" strike="noStrike">
              <a:solidFill>
                <a:srgbClr val="000000"/>
              </a:solidFill>
              <a:latin typeface="Calisto MT"/>
            </a:endParaRPr>
          </a:p>
        </p:txBody>
      </p:sp>
      <p:sp>
        <p:nvSpPr>
          <p:cNvPr id="67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mposed military order to the 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ad to fight off Indians who were raiding the colonis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e who does not work, will not eat."</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9" name="Picture 6" descr=""/>
          <p:cNvPicPr/>
          <p:nvPr/>
        </p:nvPicPr>
        <p:blipFill>
          <a:blip r:embed="rId1"/>
          <a:stretch/>
        </p:blipFill>
        <p:spPr>
          <a:xfrm>
            <a:off x="204840" y="3828960"/>
            <a:ext cx="4278240" cy="2751120"/>
          </a:xfrm>
          <a:prstGeom prst="rect">
            <a:avLst/>
          </a:prstGeom>
          <a:ln w="12600">
            <a:solidFill>
              <a:srgbClr val="000000"/>
            </a:solidFill>
            <a:miter/>
          </a:ln>
        </p:spPr>
      </p:pic>
      <p:pic>
        <p:nvPicPr>
          <p:cNvPr id="680" name="Picture 3" descr="Pocahontas_original"/>
          <p:cNvPicPr/>
          <p:nvPr/>
        </p:nvPicPr>
        <p:blipFill>
          <a:blip r:embed="rId2"/>
          <a:stretch/>
        </p:blipFill>
        <p:spPr>
          <a:xfrm>
            <a:off x="6400800" y="3424320"/>
            <a:ext cx="2527200" cy="3276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80"/>
                                        </p:tgtEl>
                                        <p:attrNameLst>
                                          <p:attrName>style.visibility</p:attrName>
                                        </p:attrNameLst>
                                      </p:cBhvr>
                                      <p:to>
                                        <p:strVal val="visible"/>
                                      </p:to>
                                    </p:set>
                                    <p:animEffect filter="dissolve" transition="in">
                                      <p:cBhvr additive="repl">
                                        <p:cTn id="7" dur="2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
            </a:r>
            <a:r>
              <a:rPr b="0" lang="en-US" sz="5400" spc="-1" strike="noStrike">
                <a:solidFill>
                  <a:srgbClr val="000000"/>
                </a:solidFill>
                <a:latin typeface="Calisto MT"/>
              </a:rPr>
              <a:t>The Starving Time”</a:t>
            </a:r>
            <a:endParaRPr b="0" lang="en-US" sz="5400" spc="-1" strike="noStrike">
              <a:solidFill>
                <a:srgbClr val="000000"/>
              </a:solidFill>
              <a:latin typeface="Calisto MT"/>
            </a:endParaRPr>
          </a:p>
        </p:txBody>
      </p:sp>
      <p:sp>
        <p:nvSpPr>
          <p:cNvPr id="682" name=""/>
          <p:cNvSpPr txBox="1"/>
          <p:nvPr/>
        </p:nvSpPr>
        <p:spPr>
          <a:xfrm>
            <a:off x="571320" y="1599840"/>
            <a:ext cx="8001000" cy="5257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7: 104 colonis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08: 38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300 more 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10: 60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10 – 1624: 10,000 </a:t>
            </a:r>
            <a:br>
              <a:rPr sz="2400"/>
            </a:br>
            <a:r>
              <a:rPr b="0" lang="en-US" sz="2400" spc="-1" strike="noStrike">
                <a:solidFill>
                  <a:srgbClr val="000000"/>
                </a:solidFill>
                <a:latin typeface="Calisto MT"/>
              </a:rPr>
              <a:t>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24 population: 1,20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dult life expectancy: 40 year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ath of children before age 5:  8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sto MT"/>
              </a:rPr>
              <a:t>Tobacco as a Cash Crop Saves Virginia</a:t>
            </a:r>
            <a:endParaRPr b="0" lang="en-US" sz="3600" spc="-1" strike="noStrike">
              <a:solidFill>
                <a:srgbClr val="000000"/>
              </a:solidFill>
              <a:latin typeface="Calisto MT"/>
            </a:endParaRPr>
          </a:p>
        </p:txBody>
      </p:sp>
      <p:sp>
        <p:nvSpPr>
          <p:cNvPr id="684" name=""/>
          <p:cNvSpPr txBox="1"/>
          <p:nvPr/>
        </p:nvSpPr>
        <p:spPr>
          <a:xfrm>
            <a:off x="571320" y="1905120"/>
            <a:ext cx="8001000" cy="477504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Rolfe </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18 — Virginia produces 20,000 pounds of </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2 — Despite losing nearly one-third of </a:t>
            </a:r>
            <a:br>
              <a:rPr sz="2200"/>
            </a:br>
            <a:r>
              <a:rPr b="0" lang="en-US" sz="2200" spc="-1" strike="noStrike">
                <a:solidFill>
                  <a:srgbClr val="000000"/>
                </a:solidFill>
                <a:latin typeface="Calisto MT"/>
              </a:rPr>
              <a:t>            its colonists in an Indian attack,</a:t>
            </a:r>
            <a:br>
              <a:rPr sz="2200"/>
            </a:br>
            <a:r>
              <a:rPr b="0" lang="en-US" sz="2200" spc="-1" strike="noStrike">
                <a:solidFill>
                  <a:srgbClr val="000000"/>
                </a:solidFill>
                <a:latin typeface="Calisto MT"/>
              </a:rPr>
              <a:t>            Virginia produces 60,000 pounds of</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7 — Virginia produces </a:t>
            </a:r>
            <a:br>
              <a:rPr sz="2200"/>
            </a:br>
            <a:r>
              <a:rPr b="0" lang="en-US" sz="2200" spc="-1" strike="noStrike">
                <a:solidFill>
                  <a:srgbClr val="000000"/>
                </a:solidFill>
                <a:latin typeface="Calisto MT"/>
              </a:rPr>
              <a:t>             500,000 pounds</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9 — Virginia produces </a:t>
            </a:r>
            <a:br>
              <a:rPr sz="2200"/>
            </a:br>
            <a:r>
              <a:rPr b="0" lang="en-US" sz="2200" spc="-1" strike="noStrike">
                <a:solidFill>
                  <a:srgbClr val="000000"/>
                </a:solidFill>
                <a:latin typeface="Calisto MT"/>
              </a:rPr>
              <a:t>             1,500,000 pounds </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looding the Market?</a:t>
            </a:r>
            <a:endParaRPr b="0" lang="en-US" sz="5400" spc="-1" strike="noStrike">
              <a:solidFill>
                <a:srgbClr val="000000"/>
              </a:solidFill>
              <a:latin typeface="Calisto MT"/>
            </a:endParaRPr>
          </a:p>
        </p:txBody>
      </p:sp>
      <p:pic>
        <p:nvPicPr>
          <p:cNvPr id="686" name="Picture 4" descr="304690_la_03_01"/>
          <p:cNvPicPr/>
          <p:nvPr/>
        </p:nvPicPr>
        <p:blipFill>
          <a:blip r:embed="rId1"/>
          <a:srcRect l="-47317" t="0" r="-47317" b="0"/>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irginia is “Bought Out”</a:t>
            </a:r>
            <a:endParaRPr b="0" lang="en-US" sz="5400" spc="-1" strike="noStrike">
              <a:solidFill>
                <a:srgbClr val="000000"/>
              </a:solidFill>
              <a:latin typeface="Calisto MT"/>
            </a:endParaRPr>
          </a:p>
        </p:txBody>
      </p:sp>
      <p:sp>
        <p:nvSpPr>
          <p:cNvPr id="688" name=""/>
          <p:cNvSpPr txBox="1"/>
          <p:nvPr/>
        </p:nvSpPr>
        <p:spPr>
          <a:xfrm>
            <a:off x="571320" y="1905120"/>
            <a:ext cx="8001000" cy="4114800"/>
          </a:xfrm>
          <a:prstGeom prst="rect">
            <a:avLst/>
          </a:prstGeom>
          <a:noFill/>
          <a:ln w="0">
            <a:noFill/>
          </a:ln>
        </p:spPr>
        <p:txBody>
          <a:bodyPr anchor="t">
            <a:normAutofit fontScale="99000"/>
          </a:bodyPr>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t’s a long story but basically the joint-stock company ended in epic failure. There were no real profits, money was owed to everyone, so in 1624 King James I declared Virginia a </a:t>
            </a:r>
            <a:r>
              <a:rPr b="1" lang="en-US" sz="2400" spc="-1" strike="noStrike">
                <a:solidFill>
                  <a:srgbClr val="000000"/>
                </a:solidFill>
                <a:latin typeface="Calisto MT"/>
              </a:rPr>
              <a:t>royal colony </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t. was established (House of Burgesse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New system put in place called the “</a:t>
            </a:r>
            <a:r>
              <a:rPr b="1" lang="en-US" sz="2400" spc="-1" strike="noStrike">
                <a:solidFill>
                  <a:srgbClr val="000000"/>
                </a:solidFill>
                <a:latin typeface="Calisto MT"/>
              </a:rPr>
              <a:t>Headright System” </a:t>
            </a:r>
            <a:r>
              <a:rPr b="0" lang="en-US" sz="2400" spc="-1" strike="noStrike">
                <a:solidFill>
                  <a:srgbClr val="000000"/>
                </a:solidFill>
                <a:latin typeface="Calisto MT"/>
              </a:rPr>
              <a:t>where investors and residents were able to acquire land in paying the passage of new settler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omen were also brought over…for the men </a:t>
            </a:r>
            <a:r>
              <a:rPr b="0" lang="en-US" sz="2400" spc="-1" strike="noStrike">
                <a:solidFill>
                  <a:srgbClr val="000000"/>
                </a:solidFill>
                <a:latin typeface="Wingdings"/>
                <a:ea typeface="Wingdings"/>
              </a:rPr>
              <a:t></a:t>
            </a:r>
            <a:r>
              <a:rPr b="0" lang="en-US" sz="2400" spc="-1" strike="noStrike">
                <a:solidFill>
                  <a:srgbClr val="000000"/>
                </a:solidFill>
                <a:latin typeface="Calisto MT"/>
              </a:rPr>
              <a:t> </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idowarchy</a:t>
            </a:r>
            <a:endParaRPr b="0" lang="en-US" sz="5400" spc="-1" strike="noStrike">
              <a:solidFill>
                <a:srgbClr val="000000"/>
              </a:solidFill>
              <a:latin typeface="Calisto MT"/>
            </a:endParaRPr>
          </a:p>
        </p:txBody>
      </p:sp>
      <p:sp>
        <p:nvSpPr>
          <p:cNvPr id="690" name=""/>
          <p:cNvSpPr txBox="1"/>
          <p:nvPr/>
        </p:nvSpPr>
        <p:spPr>
          <a:xfrm>
            <a:off x="571680" y="1905120"/>
            <a:ext cx="445896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igh mortality among husbands and fathers left many women in the Chesapeake colonies with unusual autonomy and wealt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91" name="Picture 7" descr=""/>
          <p:cNvPicPr/>
          <p:nvPr/>
        </p:nvPicPr>
        <p:blipFill>
          <a:blip r:embed="rId1">
            <a:lum contrast="6000"/>
          </a:blip>
          <a:stretch/>
        </p:blipFill>
        <p:spPr>
          <a:xfrm>
            <a:off x="5257800" y="1905120"/>
            <a:ext cx="3394080" cy="46479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or further reading</a:t>
            </a:r>
            <a:endParaRPr b="0" lang="en-US" sz="5400" spc="-1" strike="noStrike">
              <a:solidFill>
                <a:srgbClr val="000000"/>
              </a:solidFill>
              <a:latin typeface="Calisto MT"/>
            </a:endParaRPr>
          </a:p>
        </p:txBody>
      </p:sp>
      <p:sp>
        <p:nvSpPr>
          <p:cNvPr id="69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www.nps.gov/jame/historyculture/the-virginia-company-of-london.ht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highered.mcgraw-hill.com/sites/0012122005/student_view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sto MT"/>
              </a:rPr>
              <a:t>Homework for the weekend</a:t>
            </a:r>
            <a:endParaRPr b="0" lang="en-US" sz="4500" spc="-1" strike="noStrike">
              <a:solidFill>
                <a:srgbClr val="000000"/>
              </a:solidFill>
              <a:latin typeface="Calisto MT"/>
            </a:endParaRPr>
          </a:p>
        </p:txBody>
      </p:sp>
      <p:sp>
        <p:nvSpPr>
          <p:cNvPr id="69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ad &amp; take notes on the first 10 pages of Chapter 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xpect a reading quiz on Monday:</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Key Terms:</a:t>
            </a:r>
            <a:endParaRPr b="0" lang="en-US" sz="2200" spc="-1" strike="noStrike">
              <a:solidFill>
                <a:srgbClr val="000000"/>
              </a:solidFill>
              <a:latin typeface="Calisto MT"/>
            </a:endParaRPr>
          </a:p>
          <a:p>
            <a:pPr lvl="2" marL="1371600" indent="-457200">
              <a:spcAft>
                <a:spcPts val="1001"/>
              </a:spcAft>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end </a:t>
            </a:r>
            <a:endParaRPr b="0" lang="en-US" sz="5400" spc="-1" strike="noStrike">
              <a:solidFill>
                <a:srgbClr val="000000"/>
              </a:solidFill>
              <a:latin typeface="Calisto MT"/>
            </a:endParaRPr>
          </a:p>
        </p:txBody>
      </p:sp>
      <p:pic>
        <p:nvPicPr>
          <p:cNvPr id="697" name="" descr=""/>
          <p:cNvPicPr/>
          <p:nvPr/>
        </p:nvPicPr>
        <p:blipFill>
          <a:blip r:embed="rId1"/>
          <a:stretch/>
        </p:blipFill>
        <p:spPr>
          <a:xfrm>
            <a:off x="571320" y="190512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Quiz</a:t>
            </a:r>
            <a:endParaRPr b="0" lang="en-US" sz="5400" spc="-1" strike="noStrike">
              <a:solidFill>
                <a:srgbClr val="000000"/>
              </a:solidFill>
              <a:latin typeface="Calisto MT"/>
            </a:endParaRPr>
          </a:p>
        </p:txBody>
      </p:sp>
      <p:sp>
        <p:nvSpPr>
          <p:cNvPr id="699" name=""/>
          <p:cNvSpPr txBox="1"/>
          <p:nvPr/>
        </p:nvSpPr>
        <p:spPr>
          <a:xfrm>
            <a:off x="214200" y="1904760"/>
            <a:ext cx="8732880" cy="4800600"/>
          </a:xfrm>
          <a:prstGeom prst="rect">
            <a:avLst/>
          </a:prstGeom>
          <a:noFill/>
          <a:ln w="0">
            <a:noFill/>
          </a:ln>
        </p:spPr>
        <p:txBody>
          <a:bodyPr anchor="t">
            <a:normAutofit fontScale="97000"/>
          </a:bodyPr>
          <a:p>
            <a:pPr marL="443160" indent="-4431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Directions: From the following 5 topics, pick three (3) and in a sentence or two, explain why you think they made the textbook. This requires some evidence from your book (and your reading notes) plus your own interpretation of why the topic is important:</a:t>
            </a:r>
            <a:endParaRPr b="0" lang="en-US" sz="22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 Jamestow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 Bacon’s Rebellio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 William Bradford</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D) John Smith</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E) Proprietary Colony</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is is timed! 10 minutes is the limi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66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oanoke Island (Virginia) disappeared, founded by Sir Walter Raleigh (Englis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did Europeans desire to colonize and come to America?</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 Quest for gold and spices</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2) Desire to spread Christianity</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3) Desire to utilize new technologies </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ings you need to cover</a:t>
            </a:r>
            <a:endParaRPr b="0" lang="en-US" sz="5400" spc="-1" strike="noStrike">
              <a:solidFill>
                <a:srgbClr val="000000"/>
              </a:solidFill>
              <a:latin typeface="Calisto MT"/>
            </a:endParaRPr>
          </a:p>
        </p:txBody>
      </p:sp>
      <p:sp>
        <p:nvSpPr>
          <p:cNvPr id="70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Confederac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Uprising of 162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rst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eace Treaty of 1646</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ellwork</a:t>
            </a:r>
            <a:endParaRPr b="0" lang="en-US" sz="5400" spc="-1" strike="noStrike">
              <a:solidFill>
                <a:srgbClr val="000000"/>
              </a:solidFill>
              <a:latin typeface="Calisto MT"/>
            </a:endParaRPr>
          </a:p>
        </p:txBody>
      </p:sp>
      <p:sp>
        <p:nvSpPr>
          <p:cNvPr id="703" name=""/>
          <p:cNvSpPr txBox="1"/>
          <p:nvPr/>
        </p:nvSpPr>
        <p:spPr>
          <a:xfrm>
            <a:off x="201600" y="1690560"/>
            <a:ext cx="8724960" cy="50040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at were the 3 types of British colonies?</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oyal, Proprietary, and Self-Governing </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ith a neighbor, discuss the difference between a </a:t>
            </a:r>
            <a:r>
              <a:rPr b="1" lang="en-US" sz="2200" spc="-1" strike="noStrike">
                <a:solidFill>
                  <a:srgbClr val="000000"/>
                </a:solidFill>
                <a:latin typeface="Calisto MT"/>
              </a:rPr>
              <a:t>proprietary colony </a:t>
            </a:r>
            <a:r>
              <a:rPr b="0" lang="en-US" sz="2200" spc="-1" strike="noStrike">
                <a:solidFill>
                  <a:srgbClr val="000000"/>
                </a:solidFill>
                <a:latin typeface="Calisto MT"/>
              </a:rPr>
              <a:t>and a </a:t>
            </a:r>
            <a:r>
              <a:rPr b="1" lang="en-US" sz="2200" spc="-1" strike="noStrike">
                <a:solidFill>
                  <a:srgbClr val="000000"/>
                </a:solidFill>
                <a:latin typeface="Calisto MT"/>
              </a:rPr>
              <a:t>royal colony</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Proprietary Colony = </a:t>
            </a:r>
            <a:r>
              <a:rPr b="0" lang="en-US" sz="2200" spc="-1" strike="noStrike">
                <a:solidFill>
                  <a:srgbClr val="000000"/>
                </a:solidFill>
                <a:latin typeface="Calisto MT"/>
              </a:rPr>
              <a:t>type of settlement where favorites of the British crown (individuals) were awarded huge tracts of land in the New World to supervise and develop. (Also a way for monarchs to repay political and economic debts to key individuals)    Examples </a:t>
            </a:r>
            <a:r>
              <a:rPr b="0" lang="en-US" sz="2200" spc="-1" strike="noStrike">
                <a:solidFill>
                  <a:srgbClr val="000000"/>
                </a:solidFill>
                <a:latin typeface="Wingdings"/>
                <a:ea typeface="Wingdings"/>
              </a:rPr>
              <a:t></a:t>
            </a:r>
            <a:r>
              <a:rPr b="0" lang="en-US" sz="2200" spc="-1" strike="noStrike">
                <a:solidFill>
                  <a:srgbClr val="000000"/>
                </a:solidFill>
                <a:latin typeface="Calisto MT"/>
              </a:rPr>
              <a:t> Penn, Maryland, Delaware</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Royal Colony = </a:t>
            </a:r>
            <a:r>
              <a:rPr b="0" lang="en-US" sz="2200" spc="-1" strike="noStrike">
                <a:solidFill>
                  <a:srgbClr val="000000"/>
                </a:solidFill>
                <a:latin typeface="Calisto MT"/>
              </a:rPr>
              <a:t>a colony run by a royal governor (owned by the king) appointed by the British crown, having a representative assembly elected by the people</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70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703">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03">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703">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03">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703">
                                            <p:txEl>
                                              <p:pRg st="0" end="0"/>
                                            </p:txEl>
                                          </p:spTgt>
                                        </p:tgtEl>
                                        <p:attrNameLst>
                                          <p:attrName>style.visibility</p:attrName>
                                        </p:attrNameLst>
                                      </p:cBhvr>
                                      <p:to>
                                        <p:strVal val="visible"/>
                                      </p:to>
                                    </p:set>
                                    <p:animEffect filter="circle(in)" transition="in">
                                      <p:cBhvr additive="repl">
                                        <p:cTn id="34" dur="2000"/>
                                        <p:tgtEl>
                                          <p:spTgt spid="70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703">
                                            <p:txEl>
                                              <p:pRg st="1" end="1"/>
                                            </p:txEl>
                                          </p:spTgt>
                                        </p:tgtEl>
                                        <p:attrNameLst>
                                          <p:attrName>style.visibility</p:attrName>
                                        </p:attrNameLst>
                                      </p:cBhvr>
                                      <p:to>
                                        <p:strVal val="visible"/>
                                      </p:to>
                                    </p:set>
                                    <p:animEffect filter="circle(in)" transition="in">
                                      <p:cBhvr additive="repl">
                                        <p:cTn id="39" dur="2000"/>
                                        <p:tgtEl>
                                          <p:spTgt spid="7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ouse of Burgesses (1619)</a:t>
            </a:r>
            <a:endParaRPr b="0" lang="en-US" sz="5400" spc="-1" strike="noStrike">
              <a:solidFill>
                <a:srgbClr val="000000"/>
              </a:solidFill>
              <a:latin typeface="Calisto MT"/>
            </a:endParaRPr>
          </a:p>
        </p:txBody>
      </p:sp>
      <p:sp>
        <p:nvSpPr>
          <p:cNvPr id="705" name=""/>
          <p:cNvSpPr txBox="1"/>
          <p:nvPr/>
        </p:nvSpPr>
        <p:spPr>
          <a:xfrm>
            <a:off x="571320" y="19051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Unsuccessful venture in government </a:t>
            </a:r>
            <a:r>
              <a:rPr b="1" lang="en-US" sz="2000" spc="-1" strike="noStrike" u="sng">
                <a:solidFill>
                  <a:srgbClr val="000000"/>
                </a:solidFill>
                <a:uFillTx/>
                <a:latin typeface="Calisto MT"/>
              </a:rPr>
              <a:t>BUT 1</a:t>
            </a:r>
            <a:r>
              <a:rPr b="1" lang="en-US" sz="2000" spc="-1" strike="noStrike" u="sng" baseline="30000">
                <a:solidFill>
                  <a:srgbClr val="000000"/>
                </a:solidFill>
                <a:uFillTx/>
                <a:latin typeface="Calisto MT"/>
              </a:rPr>
              <a:t>st</a:t>
            </a:r>
            <a:r>
              <a:rPr b="1" lang="en-US" sz="2000" spc="-1" strike="noStrike" u="sng">
                <a:solidFill>
                  <a:srgbClr val="000000"/>
                </a:solidFill>
                <a:uFillTx/>
                <a:latin typeface="Calisto MT"/>
              </a:rPr>
              <a:t> example of representative self government </a:t>
            </a:r>
            <a:r>
              <a:rPr b="0" lang="en-US" sz="2000" spc="-1" strike="noStrike">
                <a:solidFill>
                  <a:srgbClr val="000000"/>
                </a:solidFill>
                <a:latin typeface="Calisto MT"/>
              </a:rPr>
              <a:t>[met in Jamestown]</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sto MT"/>
              </a:rPr>
              <a:t>Goal was to make local government in Virginia more responsive to the colonists</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King James I did not trust members (and favored royal colonies) and hated tobacco</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High death rate ensured rapid turnover of members</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ontrolled finances &amp; militia (similar to House of Commons in England)</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22 members, including a governor; any laws could be vetoed by London</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lantic Slave Trade</a:t>
            </a:r>
            <a:endParaRPr b="0" lang="en-US" sz="5400" spc="-1" strike="noStrike">
              <a:solidFill>
                <a:srgbClr val="000000"/>
              </a:solidFill>
              <a:latin typeface="Calisto MT"/>
            </a:endParaRPr>
          </a:p>
        </p:txBody>
      </p:sp>
      <p:pic>
        <p:nvPicPr>
          <p:cNvPr id="707" name="Picture 5" descr="map-Atlantic Slave Trade"/>
          <p:cNvPicPr/>
          <p:nvPr/>
        </p:nvPicPr>
        <p:blipFill>
          <a:blip r:embed="rId1">
            <a:lum contrast="6000"/>
          </a:blip>
          <a:srcRect l="0" t="12189" r="0" b="12189"/>
          <a:stretch/>
        </p:blipFill>
        <p:spPr>
          <a:xfrm>
            <a:off x="571680" y="1905120"/>
            <a:ext cx="800100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17</a:t>
            </a:r>
            <a:r>
              <a:rPr b="0" lang="en-US" sz="4000" spc="-1" strike="noStrike" baseline="30000">
                <a:solidFill>
                  <a:srgbClr val="000000"/>
                </a:solidFill>
                <a:latin typeface="Calisto MT"/>
              </a:rPr>
              <a:t>th</a:t>
            </a:r>
            <a:r>
              <a:rPr b="0" lang="en-US" sz="4000" spc="-1" strike="noStrike">
                <a:solidFill>
                  <a:srgbClr val="000000"/>
                </a:solidFill>
                <a:latin typeface="Calisto MT"/>
              </a:rPr>
              <a:t> Century Pop. In Chesapeake</a:t>
            </a:r>
            <a:endParaRPr b="0" lang="en-US" sz="4000" spc="-1" strike="noStrike">
              <a:solidFill>
                <a:srgbClr val="000000"/>
              </a:solidFill>
              <a:latin typeface="Calisto MT"/>
            </a:endParaRPr>
          </a:p>
        </p:txBody>
      </p:sp>
      <p:graphicFrame>
        <p:nvGraphicFramePr>
          <p:cNvPr id="709" name="Content Placeholder 3"/>
          <p:cNvGraphicFramePr/>
          <p:nvPr/>
        </p:nvGraphicFramePr>
        <p:xfrm>
          <a:off x="685800" y="1905120"/>
          <a:ext cx="7772400" cy="4114800"/>
        </p:xfrm>
        <a:graphic>
          <a:graphicData uri="http://schemas.openxmlformats.org/presentationml/2006/ole">
            <p:oleObj r:id="rId1" spid="">
              <p:embed/>
              <p:pic>
                <p:nvPicPr>
                  <p:cNvPr id="710" name="Content Placeholder 3" descr=""/>
                  <p:cNvPicPr/>
                  <p:nvPr/>
                </p:nvPicPr>
                <p:blipFill>
                  <a:blip r:embed="rId2"/>
                  <a:stretch/>
                </p:blipFill>
                <p:spPr>
                  <a:xfrm>
                    <a:off x="685800" y="190512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Middle Passage</a:t>
            </a:r>
            <a:endParaRPr b="0" lang="en-US" sz="5400" spc="-1" strike="noStrike">
              <a:solidFill>
                <a:srgbClr val="000000"/>
              </a:solidFill>
              <a:latin typeface="Calisto MT"/>
            </a:endParaRPr>
          </a:p>
        </p:txBody>
      </p:sp>
      <p:pic>
        <p:nvPicPr>
          <p:cNvPr id="712" name="Picture 5" descr=""/>
          <p:cNvPicPr/>
          <p:nvPr/>
        </p:nvPicPr>
        <p:blipFill>
          <a:blip r:embed="rId1"/>
          <a:srcRect l="0" t="9252" r="0" b="9252"/>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12"/>
                                        </p:tgtEl>
                                        <p:attrNameLst>
                                          <p:attrName>style.visibility</p:attrName>
                                        </p:attrNameLst>
                                      </p:cBhvr>
                                      <p:to>
                                        <p:strVal val="visible"/>
                                      </p:to>
                                    </p:set>
                                    <p:animEffect filter="dissolve" transition="in">
                                      <p:cBhvr additive="repl">
                                        <p:cTn id="46"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iddle Passage</a:t>
            </a:r>
            <a:endParaRPr b="0" lang="en-US" sz="5400" spc="-1" strike="noStrike">
              <a:solidFill>
                <a:srgbClr val="000000"/>
              </a:solidFill>
              <a:latin typeface="Calisto MT"/>
            </a:endParaRPr>
          </a:p>
        </p:txBody>
      </p:sp>
      <p:sp>
        <p:nvSpPr>
          <p:cNvPr id="714" name=""/>
          <p:cNvSpPr txBox="1"/>
          <p:nvPr/>
        </p:nvSpPr>
        <p:spPr>
          <a:xfrm>
            <a:off x="571320" y="1905120"/>
            <a:ext cx="8001000" cy="4952880"/>
          </a:xfrm>
          <a:prstGeom prst="rect">
            <a:avLst/>
          </a:prstGeom>
          <a:noFill/>
          <a:ln w="0">
            <a:noFill/>
          </a:ln>
        </p:spPr>
        <p:txBody>
          <a:bodyPr anchor="t">
            <a:normAutofit fontScale="94000"/>
          </a:bodyPr>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So called because it was the middle leg of a three-part voyage -- a voyage that began and ended in Europe.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first leg of the voyage carried a cargo that often included iron, cloth, brandy, firearms, and gunpowder.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on landing on Africa's "slave coast," the cargo was exchanged for Africans.</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Fully loaded with its human cargo, the ship set sail for the Americas, where the slaves were exchanged for sugar, tobacco, or some other product.</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The final leg brought the ship back to Europ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ote from Equiano</a:t>
            </a:r>
            <a:endParaRPr b="0" lang="en-US" sz="5400" spc="-1" strike="noStrike">
              <a:solidFill>
                <a:srgbClr val="000000"/>
              </a:solidFill>
              <a:latin typeface="Calisto MT"/>
            </a:endParaRPr>
          </a:p>
        </p:txBody>
      </p:sp>
      <p:sp>
        <p:nvSpPr>
          <p:cNvPr id="716" name=""/>
          <p:cNvSpPr txBox="1"/>
          <p:nvPr/>
        </p:nvSpPr>
        <p:spPr>
          <a:xfrm>
            <a:off x="571320" y="1904760"/>
            <a:ext cx="8001000" cy="470196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closeness of the place, and the heat of the climate, added to the number in the ship, which was so crowded that each had scarcely room to turn himself, almost suffocated us. This produced copious perspirations, so that the air soon became unfit for respiration, from a variety of loathsome smells, and brought on a sickness among the slaves, of which many di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quiano</a:t>
            </a:r>
            <a:endParaRPr b="0" lang="en-US" sz="5400" spc="-1" strike="noStrike">
              <a:solidFill>
                <a:srgbClr val="000000"/>
              </a:solidFill>
              <a:latin typeface="Calisto MT"/>
            </a:endParaRPr>
          </a:p>
        </p:txBody>
      </p:sp>
      <p:pic>
        <p:nvPicPr>
          <p:cNvPr id="718" name="Content Placeholder 3" descr="equiano.jpg"/>
          <p:cNvPicPr/>
          <p:nvPr/>
        </p:nvPicPr>
        <p:blipFill>
          <a:blip r:embed="rId1"/>
          <a:srcRect l="-48524" t="0" r="-48524" b="0"/>
          <a:stretch/>
        </p:blipFill>
        <p:spPr>
          <a:xfrm>
            <a:off x="-1284120" y="1905120"/>
            <a:ext cx="8001000" cy="4114800"/>
          </a:xfrm>
          <a:prstGeom prst="rect">
            <a:avLst/>
          </a:prstGeom>
          <a:ln w="0">
            <a:noFill/>
          </a:ln>
        </p:spPr>
      </p:pic>
      <p:pic>
        <p:nvPicPr>
          <p:cNvPr id="719" name="Picture 4" descr="equiano book.jpg"/>
          <p:cNvPicPr/>
          <p:nvPr/>
        </p:nvPicPr>
        <p:blipFill>
          <a:blip r:embed="rId2"/>
          <a:stretch/>
        </p:blipFill>
        <p:spPr>
          <a:xfrm>
            <a:off x="5737320" y="1905120"/>
            <a:ext cx="283536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lave Codes</a:t>
            </a:r>
            <a:endParaRPr b="0" lang="en-US" sz="5400" spc="-1" strike="noStrike">
              <a:solidFill>
                <a:srgbClr val="000000"/>
              </a:solidFill>
              <a:latin typeface="Calisto MT"/>
            </a:endParaRPr>
          </a:p>
        </p:txBody>
      </p:sp>
      <p:sp>
        <p:nvSpPr>
          <p:cNvPr id="72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de blacks [and their children]  property, or chattel for life of white master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some colonies, it was a crime to teach a slave to read or write.</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version to Christianity did not qualify the slave for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se “black codes” or “Slave codes” would again appear during and after the Civil War er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y America?</a:t>
            </a:r>
            <a:endParaRPr b="0" lang="en-US" sz="5400" spc="-1" strike="noStrike">
              <a:solidFill>
                <a:srgbClr val="000000"/>
              </a:solidFill>
              <a:latin typeface="Calisto MT"/>
            </a:endParaRPr>
          </a:p>
        </p:txBody>
      </p:sp>
      <p:sp>
        <p:nvSpPr>
          <p:cNvPr id="66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 Economic reasons (lived in povert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 Religious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big question: </a:t>
            </a:r>
            <a:r>
              <a:rPr b="1" lang="en-US" sz="2400" spc="-1" strike="noStrike" u="sng">
                <a:solidFill>
                  <a:srgbClr val="000000"/>
                </a:solidFill>
                <a:uFillTx/>
                <a:latin typeface="Calisto MT"/>
              </a:rPr>
              <a:t>Was it more “push” or “pull” factors that brought the English to Americ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iggest factors to consider:</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Gold, slavery, adventure, religious freedom, </a:t>
            </a:r>
            <a:endParaRPr b="0" lang="en-US" sz="22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pic>
        <p:nvPicPr>
          <p:cNvPr id="723" name="Picture 5" descr="Nathaniel Bacon"/>
          <p:cNvPicPr/>
          <p:nvPr/>
        </p:nvPicPr>
        <p:blipFill>
          <a:blip r:embed="rId1"/>
          <a:srcRect l="-87354" t="0" r="-87354" b="0"/>
          <a:stretch/>
        </p:blipFill>
        <p:spPr>
          <a:xfrm>
            <a:off x="100080" y="1905120"/>
            <a:ext cx="6931080" cy="4114800"/>
          </a:xfrm>
          <a:prstGeom prst="rect">
            <a:avLst/>
          </a:prstGeom>
          <a:ln w="9360">
            <a:solidFill>
              <a:srgbClr val="000000"/>
            </a:solidFill>
            <a:miter/>
          </a:ln>
        </p:spPr>
      </p:pic>
      <p:pic>
        <p:nvPicPr>
          <p:cNvPr id="724" name="Picture 7" descr="Governor Berkeley"/>
          <p:cNvPicPr/>
          <p:nvPr/>
        </p:nvPicPr>
        <p:blipFill>
          <a:blip r:embed="rId2"/>
          <a:srcRect l="2661" t="2125" r="4112" b="2125"/>
          <a:stretch/>
        </p:blipFill>
        <p:spPr>
          <a:xfrm>
            <a:off x="5192640" y="1905120"/>
            <a:ext cx="25354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724"/>
                                        </p:tgtEl>
                                        <p:attrNameLst>
                                          <p:attrName>style.visibility</p:attrName>
                                        </p:attrNameLst>
                                      </p:cBhvr>
                                      <p:to>
                                        <p:strVal val="visible"/>
                                      </p:to>
                                    </p:set>
                                    <p:animEffect filter="dissolve" transition="in">
                                      <p:cBhvr additive="repl">
                                        <p:cTn id="53" dur="2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sp>
        <p:nvSpPr>
          <p:cNvPr id="726" name=""/>
          <p:cNvSpPr txBox="1"/>
          <p:nvPr/>
        </p:nvSpPr>
        <p:spPr>
          <a:xfrm>
            <a:off x="571320" y="1905120"/>
            <a:ext cx="8001000" cy="4114800"/>
          </a:xfrm>
          <a:prstGeom prst="rect">
            <a:avLst/>
          </a:prstGeom>
          <a:noFill/>
          <a:ln w="0">
            <a:noFill/>
          </a:ln>
        </p:spPr>
        <p:txBody>
          <a:bodyPr anchor="t">
            <a:normAutofit fontScale="95000"/>
          </a:bodyPr>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Led 1,000 Virginians in a rebellion against Governor Berkeley</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ebels resented Berkeley’s close relations with Indians. Berkeley profited from the Indians but refused to deal with Indian attacks on frontier settlements.</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erkeley monopolized the fur trade with the Indians in the area.</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 threatened Berkeley at gunpoint and burned Jamestown</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ignificance: Civilian challenging royal authority in the name of liberty. Bacon felt his life was threatened by Indians.</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sto MT"/>
              </a:rPr>
              <a:t>Effects of Bacon’s Rebellion</a:t>
            </a:r>
            <a:endParaRPr b="0" lang="en-US" sz="5000" spc="-1" strike="noStrike">
              <a:solidFill>
                <a:srgbClr val="000000"/>
              </a:solidFill>
              <a:latin typeface="Calisto MT"/>
            </a:endParaRPr>
          </a:p>
        </p:txBody>
      </p:sp>
      <p:sp>
        <p:nvSpPr>
          <p:cNvPr id="728" name=""/>
          <p:cNvSpPr txBox="1"/>
          <p:nvPr/>
        </p:nvSpPr>
        <p:spPr>
          <a:xfrm>
            <a:off x="571320" y="1904760"/>
            <a:ext cx="8001000" cy="461628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attacked Indians, whether they were friendly or not to whit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ernor Berkeley driven from James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y burned the capital.</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went on a rampage of plundering.</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acon suddenly died of feve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rkeley brutally crushed the rebellion and hanged 20 rebels.</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it expose?</a:t>
            </a:r>
            <a:endParaRPr b="0" lang="en-US" sz="5400" spc="-1" strike="noStrike">
              <a:solidFill>
                <a:srgbClr val="000000"/>
              </a:solidFill>
              <a:latin typeface="Calisto MT"/>
            </a:endParaRPr>
          </a:p>
        </p:txBody>
      </p:sp>
      <p:sp>
        <p:nvSpPr>
          <p:cNvPr id="730"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ocio-economic class differences/clashes between rural and urban communities would continue throughout American histor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per class planters searched for laborers less likely to rebel </a:t>
            </a:r>
            <a:r>
              <a:rPr b="0" lang="en-US" sz="2400" spc="-1" strike="noStrike">
                <a:solidFill>
                  <a:srgbClr val="000000"/>
                </a:solidFill>
                <a:latin typeface="Wingdings"/>
                <a:ea typeface="Wingdings"/>
              </a:rPr>
              <a:t></a:t>
            </a:r>
            <a:r>
              <a:rPr b="0" lang="en-US" sz="2400" spc="-1" strike="noStrike">
                <a:solidFill>
                  <a:srgbClr val="000000"/>
                </a:solidFill>
                <a:latin typeface="Calisto MT"/>
              </a:rPr>
              <a:t> BLACK SLAV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ryland- 1634</a:t>
            </a:r>
            <a:endParaRPr b="0" lang="en-US" sz="5400" spc="-1" strike="noStrike">
              <a:solidFill>
                <a:srgbClr val="000000"/>
              </a:solidFill>
              <a:latin typeface="Calisto MT"/>
            </a:endParaRPr>
          </a:p>
        </p:txBody>
      </p:sp>
      <p:sp>
        <p:nvSpPr>
          <p:cNvPr id="732"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fer to text for more thorough overview</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haven for Catholic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proprietary colony (granted to an individual or group by the British crown and that were granted full rights of self-government.)</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st 2 examples of P.C.</a:t>
            </a:r>
            <a:r>
              <a:rPr b="0" lang="en-US" sz="2400" spc="-1" strike="noStrike">
                <a:solidFill>
                  <a:srgbClr val="000000"/>
                </a:solidFill>
                <a:latin typeface="Wingdings"/>
                <a:ea typeface="Wingdings"/>
              </a:rPr>
              <a:t></a:t>
            </a:r>
            <a:r>
              <a:rPr b="0" lang="en-US" sz="2400" spc="-1" strike="noStrike">
                <a:solidFill>
                  <a:srgbClr val="000000"/>
                </a:solidFill>
                <a:latin typeface="Calisto MT"/>
              </a:rPr>
              <a:t> MD &amp; P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ryland Toleration Act 1649</a:t>
            </a:r>
            <a:endParaRPr b="0" lang="en-US" sz="4000" spc="-1" strike="noStrike">
              <a:solidFill>
                <a:srgbClr val="000000"/>
              </a:solidFill>
              <a:latin typeface="Calisto MT"/>
            </a:endParaRPr>
          </a:p>
        </p:txBody>
      </p:sp>
      <p:sp>
        <p:nvSpPr>
          <p:cNvPr id="73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 Toleration Act of 1649</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upported by the Catholics in M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uaranteed toleration to all CHRISTIAN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creed death to those who denied the divinity of Jesus [like Jews, atheists, etc.].</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Plymouth Colony</a:t>
            </a:r>
            <a:endParaRPr b="0" lang="en-US" sz="5400" spc="-1" strike="noStrike">
              <a:solidFill>
                <a:srgbClr val="000000"/>
              </a:solidFill>
              <a:latin typeface="Calisto MT"/>
            </a:endParaRPr>
          </a:p>
        </p:txBody>
      </p:sp>
      <p:sp>
        <p:nvSpPr>
          <p:cNvPr id="73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Lesson</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 Bay Colony</a:t>
            </a:r>
            <a:endParaRPr b="0" lang="en-US" sz="5400" spc="-1" strike="noStrike">
              <a:solidFill>
                <a:srgbClr val="000000"/>
              </a:solidFill>
              <a:latin typeface="Calisto MT"/>
            </a:endParaRPr>
          </a:p>
        </p:txBody>
      </p:sp>
      <p:sp>
        <p:nvSpPr>
          <p:cNvPr id="73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 Bay Colony</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740"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e have now covered:</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Virginia &amp; Jamestown / Royal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ole of tobacco / John Rolf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Smith &amp; The Starving Tim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as a Proprietary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Toleration Act 1649</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s Rebellion &amp; Significanc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lave Codes, Middle Passage, Equiano</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House of Burgesses </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lonies Covered</a:t>
            </a:r>
            <a:endParaRPr b="0" lang="en-US" sz="5400" spc="-1" strike="noStrike">
              <a:solidFill>
                <a:srgbClr val="000000"/>
              </a:solidFill>
              <a:latin typeface="Calisto MT"/>
            </a:endParaRPr>
          </a:p>
        </p:txBody>
      </p:sp>
      <p:sp>
        <p:nvSpPr>
          <p:cNvPr id="742"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Virgini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ssachusetts Ba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in M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A &amp; MD</a:t>
            </a:r>
            <a:endParaRPr b="0" lang="en-US" sz="5400" spc="-1" strike="noStrike">
              <a:solidFill>
                <a:srgbClr val="000000"/>
              </a:solidFill>
              <a:latin typeface="Calisto MT"/>
            </a:endParaRPr>
          </a:p>
        </p:txBody>
      </p:sp>
      <p:sp>
        <p:nvSpPr>
          <p:cNvPr id="665"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the “Chesapeake” Region</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a:t>
            </a:r>
            <a:r>
              <a:rPr b="0" lang="en-US" sz="2400" spc="-1" strike="noStrike" baseline="30000">
                <a:solidFill>
                  <a:srgbClr val="000000"/>
                </a:solidFill>
                <a:latin typeface="Calisto MT"/>
              </a:rPr>
              <a:t>st</a:t>
            </a:r>
            <a:r>
              <a:rPr b="0" lang="en-US" sz="2400" spc="-1" strike="noStrike">
                <a:solidFill>
                  <a:srgbClr val="000000"/>
                </a:solidFill>
                <a:latin typeface="Calisto MT"/>
              </a:rPr>
              <a:t> 2 successful coloni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a:t>
            </a:r>
            <a:r>
              <a:rPr b="1" lang="en-US" sz="2400" spc="-1" strike="noStrike">
                <a:solidFill>
                  <a:srgbClr val="000000"/>
                </a:solidFill>
                <a:latin typeface="Calisto MT"/>
              </a:rPr>
              <a:t>London Company </a:t>
            </a:r>
            <a:r>
              <a:rPr b="0" lang="en-US" sz="2400" spc="-1" strike="noStrike">
                <a:solidFill>
                  <a:srgbClr val="000000"/>
                </a:solidFill>
                <a:latin typeface="Calisto MT"/>
              </a:rPr>
              <a:t>(a joint-stock company) built Jamestown (V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3 Biggest problems:</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A) Hostile environment</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 Unclear goals</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 Colonists did not work for common good</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66" name="TextBox 3"/>
          <p:cNvSpPr/>
          <p:nvPr/>
        </p:nvSpPr>
        <p:spPr>
          <a:xfrm>
            <a:off x="5153040" y="952560"/>
            <a:ext cx="1857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Homework</a:t>
            </a:r>
            <a:endParaRPr b="0" lang="en-US" sz="5400" spc="-1" strike="noStrike">
              <a:solidFill>
                <a:srgbClr val="000000"/>
              </a:solidFill>
              <a:latin typeface="Calisto MT"/>
            </a:endParaRPr>
          </a:p>
        </p:txBody>
      </p:sp>
      <p:sp>
        <p:nvSpPr>
          <p:cNvPr id="74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night read &amp; take notes on pages 43-5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sible reading quiz tomorrow</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iz on Friday</a:t>
            </a:r>
            <a:endParaRPr b="0" lang="en-US" sz="5400" spc="-1" strike="noStrike">
              <a:solidFill>
                <a:srgbClr val="000000"/>
              </a:solidFill>
              <a:latin typeface="Calisto MT"/>
            </a:endParaRPr>
          </a:p>
        </p:txBody>
      </p:sp>
      <p:sp>
        <p:nvSpPr>
          <p:cNvPr id="746" name=""/>
          <p:cNvSpPr txBox="1"/>
          <p:nvPr/>
        </p:nvSpPr>
        <p:spPr>
          <a:xfrm>
            <a:off x="228600" y="1905120"/>
            <a:ext cx="834408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 First 10 Presid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 First 10 Amendm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 Historical Eras in order with the saying but no freebies</a:t>
            </a:r>
            <a:endParaRPr b="0" lang="en-US" sz="2400" spc="-1" strike="noStrike">
              <a:solidFill>
                <a:srgbClr val="000000"/>
              </a:solidFill>
              <a:latin typeface="Calisto MT"/>
            </a:endParaRPr>
          </a:p>
          <a:p>
            <a:pPr marL="457200" indent="-457200">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alisto MT"/>
              </a:rPr>
              <a:t> </a:t>
            </a:r>
            <a:r>
              <a:rPr b="0" lang="en-US" sz="2400" spc="-1" strike="noStrike">
                <a:solidFill>
                  <a:srgbClr val="000000"/>
                </a:solidFill>
                <a:latin typeface="Calisto MT"/>
              </a:rPr>
              <a:t>Point Value will be 3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tudy Guide for Exam 1</a:t>
            </a:r>
            <a:endParaRPr b="0" lang="en-US" sz="5400" spc="-1" strike="noStrike">
              <a:solidFill>
                <a:srgbClr val="000000"/>
              </a:solidFill>
              <a:latin typeface="Calisto MT"/>
            </a:endParaRPr>
          </a:p>
        </p:txBody>
      </p:sp>
      <p:sp>
        <p:nvSpPr>
          <p:cNvPr id="74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s posted on the websit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pic>
        <p:nvPicPr>
          <p:cNvPr id="668" name="Picture 8" descr="map-River Plantations-mid-17c"/>
          <p:cNvPicPr/>
          <p:nvPr/>
        </p:nvPicPr>
        <p:blipFill>
          <a:blip r:embed="rId1">
            <a:lum contrast="6000"/>
          </a:blip>
          <a:srcRect l="-7364" t="0" r="-7364" b="0"/>
          <a:stretch/>
        </p:blipFill>
        <p:spPr>
          <a:xfrm>
            <a:off x="571680" y="1270080"/>
            <a:ext cx="8123040" cy="558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istorical Background</a:t>
            </a:r>
            <a:endParaRPr b="0" lang="en-US" sz="5400" spc="-1" strike="noStrike">
              <a:solidFill>
                <a:srgbClr val="000000"/>
              </a:solidFill>
              <a:latin typeface="Calisto MT"/>
            </a:endParaRPr>
          </a:p>
        </p:txBody>
      </p:sp>
      <p:sp>
        <p:nvSpPr>
          <p:cNvPr id="670" name=""/>
          <p:cNvSpPr txBox="1"/>
          <p:nvPr/>
        </p:nvSpPr>
        <p:spPr>
          <a:xfrm>
            <a:off x="571320" y="1660680"/>
            <a:ext cx="8001000" cy="5006880"/>
          </a:xfrm>
          <a:prstGeom prst="rect">
            <a:avLst/>
          </a:prstGeom>
          <a:noFill/>
          <a:ln w="0">
            <a:noFill/>
          </a:ln>
        </p:spPr>
        <p:txBody>
          <a:bodyPr anchor="t">
            <a:normAutofit fontScale="93000"/>
          </a:bodyPr>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the late 1580s, Sir Walter Raleigh attempted to plant a colony for England in present-day North Carolina (Roanoke).</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t was not until 1606 that the Virginia Company of London received a charter from the newly-crowned King James I.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a joint-stock company, which sold shares.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ll who purchased shares shared in the success or failure of the venture.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formed both to bring profit to its shareholders and to establish an English colony in the New World.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December 1606, the Virginia Company's three ships, containing 144 men and boys, set sail. On May 13, 1607, these first settlers selected the site of Jamestown Island as the place to build their for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mputer generated view</a:t>
            </a:r>
            <a:endParaRPr b="0" lang="en-US" sz="5400" spc="-1" strike="noStrike">
              <a:solidFill>
                <a:srgbClr val="000000"/>
              </a:solidFill>
              <a:latin typeface="Calisto MT"/>
            </a:endParaRPr>
          </a:p>
        </p:txBody>
      </p:sp>
      <p:pic>
        <p:nvPicPr>
          <p:cNvPr id="672" name="Content Placeholder 3" descr="James Fort"/>
          <p:cNvPicPr/>
          <p:nvPr/>
        </p:nvPicPr>
        <p:blipFill>
          <a:blip r:embed="rId1">
            <a:lum contrast="6000"/>
          </a:blip>
          <a:srcRect l="-9494" t="0" r="-9494" b="0"/>
          <a:stretch/>
        </p:blipFill>
        <p:spPr>
          <a:xfrm>
            <a:off x="571680" y="1538280"/>
            <a:ext cx="8001000" cy="448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Jamestown Disasters</a:t>
            </a:r>
            <a:endParaRPr b="0" lang="en-US" sz="5400" spc="-1" strike="noStrike">
              <a:solidFill>
                <a:srgbClr val="000000"/>
              </a:solidFill>
              <a:latin typeface="Calisto MT"/>
            </a:endParaRPr>
          </a:p>
        </p:txBody>
      </p:sp>
      <p:sp>
        <p:nvSpPr>
          <p:cNvPr id="674" name=""/>
          <p:cNvSpPr txBox="1"/>
          <p:nvPr/>
        </p:nvSpPr>
        <p:spPr>
          <a:xfrm>
            <a:off x="571320" y="1904760"/>
            <a:ext cx="8001000" cy="4663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6-1607 - 40 people died on the voyage to the New Worl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 another ship from England lost its leaders and supplies in a shipwreck off Bermud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died by the dozens!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t>
            </a:r>
            <a:r>
              <a:rPr b="0" lang="en-US" sz="2400" spc="-1" strike="noStrike">
                <a:solidFill>
                  <a:srgbClr val="000000"/>
                </a:solidFill>
                <a:latin typeface="Calisto MT"/>
              </a:rPr>
              <a:t>Gentlemen” colonists would not work themselv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mith nearly killed by Indians &amp; Powhatan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wasted time looking for gold instead of hunting or farming.</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nter John Smith</a:t>
            </a:r>
            <a:endParaRPr b="0" lang="en-US" sz="5400" spc="-1" strike="noStrike">
              <a:solidFill>
                <a:srgbClr val="000000"/>
              </a:solidFill>
              <a:latin typeface="Calisto MT"/>
            </a:endParaRPr>
          </a:p>
        </p:txBody>
      </p:sp>
      <p:pic>
        <p:nvPicPr>
          <p:cNvPr id="676" name="Content Placeholder 3" descr="smith.jpg"/>
          <p:cNvPicPr/>
          <p:nvPr/>
        </p:nvPicPr>
        <p:blipFill>
          <a:blip r:embed="rId1"/>
          <a:srcRect l="-52625" t="0" r="-52625" b="0"/>
          <a:stretch/>
        </p:blipFill>
        <p:spPr>
          <a:xfrm>
            <a:off x="571680" y="1417680"/>
            <a:ext cx="8001000" cy="512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0:52:55Z</dcterms:created>
  <dc:creator>Mark Scacewater</dc:creator>
  <dc:description/>
  <dc:language>en-US</dc:language>
  <cp:lastModifiedBy>Mark Scacewater</cp:lastModifiedBy>
  <dcterms:modified xsi:type="dcterms:W3CDTF">2012-08-27T11:27:26Z</dcterms:modified>
  <cp:revision>30</cp:revision>
  <dc:subject/>
  <dc:title>AP US History</dc:title>
</cp:coreProperties>
</file>